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31F-1647-4228-9FAF-6CF01AEA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8BB-877F-4F5B-8A49-122BB37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D51-B3B8-48C4-80CC-8C581DFA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D23-7FE9-4BA6-97F6-A9C2729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CDF-99E2-4A7E-87B7-83EB590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F20-2E06-4D2C-98EE-524AFEA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5D8-A339-453B-A65B-6808B03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589-4335-458E-9C20-D768735D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88C-A2E1-488B-B329-A0D0C6F6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E65-3756-4DC0-9BE5-5B09C7E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9AA-A762-4137-B860-BFB3967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4B1-085E-4259-B79A-DD224F4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591-72E7-48C9-BEA1-8D8DFE50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pemberton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ca-Col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553080" y="43434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lin Oj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25780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2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irls in a j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4/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mberton"/>
          <p:cNvPicPr/>
          <p:nvPr/>
        </p:nvPicPr>
        <p:blipFill>
          <a:blip r:embed="rId1"/>
          <a:srcRect l="0" t="0" r="31171" b="0"/>
          <a:stretch/>
        </p:blipFill>
        <p:spPr>
          <a:xfrm>
            <a:off x="3505320" y="198108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Pemberton"/>
          <p:cNvPicPr/>
          <p:nvPr/>
        </p:nvPicPr>
        <p:blipFill>
          <a:blip r:embed="rId2"/>
          <a:srcRect l="64409" t="-3098" r="0" b="0"/>
          <a:stretch/>
        </p:blipFill>
        <p:spPr>
          <a:xfrm>
            <a:off x="1600200" y="914400"/>
            <a:ext cx="160020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3341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257800"/>
            <a:ext cx="7391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Coca-Cola, 9/29/10 John Pemberto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pember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 John Pemberton created Coca-Cola in 18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ixed a version of the syrup in a brass kettle in his backyard that would later become Coca-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ained extracts of cocaine and of kob nuts a rich of caffeine, and sugar for sweet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bookkeeper Frank Robbinson came up with the name Coca-C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developed the script style that remains for the company 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ivil War Pemberton fought for the south, rising to the rank of lieutenant colon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oved to Atlanta after the war were he began selling patients medicines and operated his own the Pemberton Chemical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company’s early years the Coca-Cola formula was altered sever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1905 it contained cocaine and kola 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 and kola nut was removed and was replaced with citric, acid and fruit fla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3:59Z</dcterms:created>
  <dc:creator>install</dc:creator>
  <dc:description/>
  <dc:language>en-US</dc:language>
  <cp:lastModifiedBy>install</cp:lastModifiedBy>
  <dcterms:modified xsi:type="dcterms:W3CDTF">2010-10-14T17:35:54Z</dcterms:modified>
  <cp:revision>12</cp:revision>
  <dc:subject/>
  <dc:title>Slide 1</dc:title>
</cp:coreProperties>
</file>